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B9F15-F7CA-48E7-8C87-39E214053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635F8-445E-4E4D-A8A1-7F2FA639F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FA82A-577C-44A2-B1B5-446D7A00C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60BCE-E6E5-4198-B93A-455982510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6ACA9-53EC-4FCB-BEF4-D5CAF4404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D9F52-8DD6-4152-88C7-28AED1F00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D082F-A8F0-4B6D-8E22-C865A4399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BD28E-C8AC-43DA-8EDE-FA5BFF72D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906B2-9FF4-4602-95E8-F100512E7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ADE50-D2D9-49D9-BF04-F08B7A8E7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1CBAC-9C42-4FF6-BAF1-6BAF78F7A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4117F-1E8D-4C65-AA5D-0CE13BE68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D6FF1-E124-48A0-86B6-FDB9EE6E8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64666-ED08-41BC-8197-DBE4BD6C5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16194-D1B4-4347-93A9-4BF122CE9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D0D1F-882D-42CF-BDE1-4CB52B044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8FB04-9D72-468F-95DF-827426B99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AE9D7-1190-47E9-BFDF-3C7AF8CE3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98983-835C-49D5-9249-38249536F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FA09E-6398-463C-9DC4-4EB5AE65B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15B56-B7CF-4E14-BB6C-700F1D8DD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4B314-56CD-4714-934C-B190D9B11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25FAF-A18E-41C3-BDC7-A46492A65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44C5F-9D6A-40C5-A9BC-1F00BEF9C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DC33B-AE23-48FB-90E5-D79FCCC0CC4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8C721-9F52-48E8-9835-D98A0DA02BF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glish-Freshm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0574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ct. 5, 2009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.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tch mov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 with grou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DO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their a lake in south america full of gold and jewels Incan Indian chieves honored there gods by throwing jewels into a lake and jumping in, coated with gold pow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ter:irrigate::manure: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rtive:openly::jittery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Homework-write one paragraph about the following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85800" y="1600200"/>
            <a:ext cx="7696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pools by the lake are described as “places of life because of th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ater, and places of killing because of the water, too.” What is meant by this? How can it be both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5T13:19:14Z</dcterms:created>
  <dc:creator>VMS</dc:creator>
  <dc:description/>
  <dc:language>en-US</dc:language>
  <cp:lastModifiedBy>VMS</cp:lastModifiedBy>
  <dcterms:modified xsi:type="dcterms:W3CDTF">2009-10-05T13:42:38Z</dcterms:modified>
  <cp:revision>1</cp:revision>
  <dc:subject/>
  <dc:title>English-Freshmen</dc:title>
</cp:coreProperties>
</file>